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9.wmf" ContentType="image/x-wmf"/>
  <Override PartName="/ppt/media/image8.wmf" ContentType="image/x-wmf"/>
  <Override PartName="/ppt/media/image13.wmf" ContentType="image/x-wmf"/>
  <Override PartName="/ppt/media/image12.png" ContentType="image/png"/>
  <Override PartName="/ppt/media/image7.wmf" ContentType="image/x-wmf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72" spc="-1" strike="noStrike">
                <a:solidFill>
                  <a:srgbClr val="000000"/>
                </a:solidFill>
                <a:latin typeface="Arial"/>
              </a:defRPr>
            </a:pPr>
            <a:r>
              <a:rPr b="0" sz="972" spc="-1" strike="noStrike">
                <a:solidFill>
                  <a:srgbClr val="000000"/>
                </a:solidFill>
                <a:latin typeface="Arial"/>
              </a:rPr>
              <a:t>EEMR MATUTINO</a:t>
            </a:r>
          </a:p>
        </c:rich>
      </c:tx>
      <c:layout>
        <c:manualLayout>
          <c:xMode val="edge"/>
          <c:yMode val="edge"/>
          <c:x val="0.43860272876761"/>
          <c:y val="0.01999750031246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2984626921635"/>
          <c:w val="0.959957335229545"/>
          <c:h val="0.8563929508811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1</c:v>
                </c:pt>
                <c:pt idx="2">
                  <c:v>14</c:v>
                </c:pt>
                <c:pt idx="3">
                  <c:v>3</c:v>
                </c:pt>
                <c:pt idx="4">
                  <c:v>10</c:v>
                </c:pt>
                <c:pt idx="5">
                  <c:v>7</c:v>
                </c:pt>
                <c:pt idx="6">
                  <c:v>0</c:v>
                </c:pt>
                <c:pt idx="7">
                  <c:v>4</c:v>
                </c:pt>
                <c:pt idx="8">
                  <c:v>0</c:v>
                </c:pt>
                <c:pt idx="9">
                  <c:v>0</c:v>
                </c:pt>
                <c:pt idx="10">
                  <c:v>10</c:v>
                </c:pt>
                <c:pt idx="11">
                  <c:v>0</c:v>
                </c:pt>
                <c:pt idx="12">
                  <c:v>5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692</c:v>
                </c:pt>
                <c:pt idx="1">
                  <c:v>4.692</c:v>
                </c:pt>
                <c:pt idx="2">
                  <c:v>12.144</c:v>
                </c:pt>
                <c:pt idx="3">
                  <c:v>10.212</c:v>
                </c:pt>
                <c:pt idx="4">
                  <c:v>7.452</c:v>
                </c:pt>
                <c:pt idx="5">
                  <c:v>7.452</c:v>
                </c:pt>
                <c:pt idx="6">
                  <c:v>5.52</c:v>
                </c:pt>
                <c:pt idx="7">
                  <c:v>5.796</c:v>
                </c:pt>
                <c:pt idx="8">
                  <c:v>1.656</c:v>
                </c:pt>
                <c:pt idx="9">
                  <c:v>1.932</c:v>
                </c:pt>
                <c:pt idx="10">
                  <c:v>2.208</c:v>
                </c:pt>
                <c:pt idx="11">
                  <c:v>1.656</c:v>
                </c:pt>
                <c:pt idx="12">
                  <c:v>0.828</c:v>
                </c:pt>
                <c:pt idx="13">
                  <c:v>0.828</c:v>
                </c:pt>
                <c:pt idx="14">
                  <c:v>1.932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76778146"/>
        <c:axId val="1516255"/>
      </c:barChart>
      <c:catAx>
        <c:axId val="7677814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6255"/>
        <c:crossesAt val="0"/>
        <c:auto val="1"/>
        <c:lblAlgn val="ctr"/>
        <c:lblOffset val="100"/>
        <c:noMultiLvlLbl val="0"/>
      </c:catAx>
      <c:valAx>
        <c:axId val="1516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7814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344" spc="-1" strike="noStrike">
                <a:solidFill>
                  <a:srgbClr val="000000"/>
                </a:solidFill>
                <a:latin typeface="Arial"/>
              </a:defRPr>
            </a:pPr>
            <a:r>
              <a:rPr b="1" sz="1344" spc="-1" strike="noStrike">
                <a:solidFill>
                  <a:srgbClr val="000000"/>
                </a:solidFill>
                <a:latin typeface="Arial"/>
              </a:rPr>
              <a:t>EEMR MATUTINO</a:t>
            </a:r>
          </a:p>
        </c:rich>
      </c:tx>
      <c:layout>
        <c:manualLayout>
          <c:xMode val="edge"/>
          <c:yMode val="edge"/>
          <c:x val="0.410959512910537"/>
          <c:y val="0.020747406574178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60979877515311"/>
          <c:w val="0.959957335229545"/>
          <c:h val="0.8186476690413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3</c:v>
                </c:pt>
                <c:pt idx="3">
                  <c:v>3</c:v>
                </c:pt>
                <c:pt idx="4">
                  <c:v>1</c:v>
                </c:pt>
                <c:pt idx="5">
                  <c:v>5</c:v>
                </c:pt>
                <c:pt idx="6">
                  <c:v>2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1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468</c:v>
                </c:pt>
                <c:pt idx="1">
                  <c:v>3.468</c:v>
                </c:pt>
                <c:pt idx="2">
                  <c:v>8.976</c:v>
                </c:pt>
                <c:pt idx="3">
                  <c:v>7.548</c:v>
                </c:pt>
                <c:pt idx="4">
                  <c:v>5.508</c:v>
                </c:pt>
                <c:pt idx="5">
                  <c:v>5.508</c:v>
                </c:pt>
                <c:pt idx="6">
                  <c:v>4.08</c:v>
                </c:pt>
                <c:pt idx="7">
                  <c:v>4.284</c:v>
                </c:pt>
                <c:pt idx="8">
                  <c:v>1.224</c:v>
                </c:pt>
                <c:pt idx="9">
                  <c:v>1.428</c:v>
                </c:pt>
                <c:pt idx="10">
                  <c:v>1.632</c:v>
                </c:pt>
                <c:pt idx="11">
                  <c:v>1.224</c:v>
                </c:pt>
                <c:pt idx="12">
                  <c:v>0.612</c:v>
                </c:pt>
                <c:pt idx="13">
                  <c:v>0.612</c:v>
                </c:pt>
                <c:pt idx="14">
                  <c:v>1.428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91153025"/>
        <c:axId val="52745501"/>
      </c:barChart>
      <c:catAx>
        <c:axId val="9115302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45501"/>
        <c:crossesAt val="0"/>
        <c:auto val="1"/>
        <c:lblAlgn val="ctr"/>
        <c:lblOffset val="100"/>
        <c:noMultiLvlLbl val="0"/>
      </c:catAx>
      <c:valAx>
        <c:axId val="527455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5302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352" spc="-1" strike="noStrike">
                <a:solidFill>
                  <a:srgbClr val="000000"/>
                </a:solidFill>
                <a:latin typeface="Arial"/>
              </a:defRPr>
            </a:pPr>
            <a:r>
              <a:rPr b="1" sz="1352" spc="-1" strike="noStrike">
                <a:solidFill>
                  <a:srgbClr val="000000"/>
                </a:solidFill>
                <a:latin typeface="Arial"/>
              </a:rPr>
              <a:t>EEMR MATUTINO</a:t>
            </a:r>
          </a:p>
        </c:rich>
      </c:tx>
      <c:layout>
        <c:manualLayout>
          <c:xMode val="edge"/>
          <c:yMode val="edge"/>
          <c:x val="0.411034543687605"/>
          <c:y val="0.02074481379655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780811025709"/>
          <c:y val="0.161084728817796"/>
          <c:w val="0.959978796713491"/>
          <c:h val="0.81867033241689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7</c:v>
                </c:pt>
                <c:pt idx="1">
                  <c:v>0</c:v>
                </c:pt>
                <c:pt idx="2">
                  <c:v>4</c:v>
                </c:pt>
                <c:pt idx="3">
                  <c:v>11</c:v>
                </c:pt>
                <c:pt idx="4">
                  <c:v>4</c:v>
                </c:pt>
                <c:pt idx="5">
                  <c:v>5</c:v>
                </c:pt>
                <c:pt idx="6">
                  <c:v>0</c:v>
                </c:pt>
                <c:pt idx="7">
                  <c:v>4</c:v>
                </c:pt>
                <c:pt idx="8">
                  <c:v>0</c:v>
                </c:pt>
                <c:pt idx="9">
                  <c:v>0</c:v>
                </c:pt>
                <c:pt idx="10">
                  <c:v>6</c:v>
                </c:pt>
                <c:pt idx="11">
                  <c:v>0</c:v>
                </c:pt>
                <c:pt idx="12">
                  <c:v>0</c:v>
                </c:pt>
                <c:pt idx="13">
                  <c:v>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624</c:v>
                </c:pt>
                <c:pt idx="1">
                  <c:v>4.624</c:v>
                </c:pt>
                <c:pt idx="2">
                  <c:v>11.968</c:v>
                </c:pt>
                <c:pt idx="3">
                  <c:v>10.064</c:v>
                </c:pt>
                <c:pt idx="4">
                  <c:v>7.344</c:v>
                </c:pt>
                <c:pt idx="5">
                  <c:v>7.344</c:v>
                </c:pt>
                <c:pt idx="6">
                  <c:v>5.44</c:v>
                </c:pt>
                <c:pt idx="7">
                  <c:v>5.712</c:v>
                </c:pt>
                <c:pt idx="8">
                  <c:v>1.632</c:v>
                </c:pt>
                <c:pt idx="9">
                  <c:v>1.904</c:v>
                </c:pt>
                <c:pt idx="10">
                  <c:v>2.176</c:v>
                </c:pt>
                <c:pt idx="11">
                  <c:v>1.632</c:v>
                </c:pt>
                <c:pt idx="12">
                  <c:v>0.816</c:v>
                </c:pt>
                <c:pt idx="13">
                  <c:v>0.816</c:v>
                </c:pt>
                <c:pt idx="14">
                  <c:v>1.904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53559343"/>
        <c:axId val="65605131"/>
      </c:barChart>
      <c:catAx>
        <c:axId val="5355934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05131"/>
        <c:crossesAt val="0"/>
        <c:auto val="1"/>
        <c:lblAlgn val="ctr"/>
        <c:lblOffset val="100"/>
        <c:noMultiLvlLbl val="0"/>
      </c:catAx>
      <c:valAx>
        <c:axId val="65605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5934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72" spc="-1" strike="noStrike">
                <a:solidFill>
                  <a:srgbClr val="000000"/>
                </a:solidFill>
                <a:latin typeface="Arial"/>
              </a:defRPr>
            </a:pPr>
            <a:r>
              <a:rPr b="0" sz="972" spc="-1" strike="noStrike">
                <a:solidFill>
                  <a:srgbClr val="000000"/>
                </a:solidFill>
                <a:latin typeface="Arial"/>
              </a:rPr>
              <a:t>EEMR VESPERTINO</a:t>
            </a:r>
          </a:p>
        </c:rich>
      </c:tx>
      <c:layout>
        <c:manualLayout>
          <c:xMode val="edge"/>
          <c:yMode val="edge"/>
          <c:x val="0.42980311986134"/>
          <c:y val="0.019995001249687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2969257685579"/>
          <c:w val="0.959957335229545"/>
          <c:h val="0.85641089727568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5</c:v>
                </c:pt>
                <c:pt idx="3">
                  <c:v>1</c:v>
                </c:pt>
                <c:pt idx="4">
                  <c:v>0</c:v>
                </c:pt>
                <c:pt idx="5">
                  <c:v>1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125</c:v>
                </c:pt>
                <c:pt idx="1">
                  <c:v>3.41666666666667</c:v>
                </c:pt>
                <c:pt idx="2">
                  <c:v>10.25</c:v>
                </c:pt>
                <c:pt idx="3">
                  <c:v>10.25</c:v>
                </c:pt>
                <c:pt idx="4">
                  <c:v>3.41666666666667</c:v>
                </c:pt>
                <c:pt idx="5">
                  <c:v>3.41666666666667</c:v>
                </c:pt>
                <c:pt idx="6">
                  <c:v>0</c:v>
                </c:pt>
                <c:pt idx="7">
                  <c:v>3.4166666666666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.70833333333333</c:v>
                </c:pt>
              </c:numCache>
            </c:numRef>
          </c:val>
        </c:ser>
        <c:gapWidth val="100"/>
        <c:overlap val="0"/>
        <c:axId val="38006122"/>
        <c:axId val="16364377"/>
      </c:barChart>
      <c:catAx>
        <c:axId val="3800612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64377"/>
        <c:crossesAt val="0"/>
        <c:auto val="1"/>
        <c:lblAlgn val="ctr"/>
        <c:lblOffset val="100"/>
        <c:noMultiLvlLbl val="0"/>
      </c:catAx>
      <c:valAx>
        <c:axId val="16364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0612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351" spc="-1" strike="noStrike">
                <a:solidFill>
                  <a:srgbClr val="000000"/>
                </a:solidFill>
                <a:latin typeface="Arial"/>
              </a:defRPr>
            </a:pPr>
            <a:r>
              <a:rPr b="1" sz="1351" spc="-1" strike="noStrike">
                <a:solidFill>
                  <a:srgbClr val="000000"/>
                </a:solidFill>
                <a:latin typeface="Arial"/>
              </a:rPr>
              <a:t>EEMR VESPERTINO</a:t>
            </a:r>
          </a:p>
        </c:rich>
      </c:tx>
      <c:layout>
        <c:manualLayout>
          <c:xMode val="edge"/>
          <c:yMode val="edge"/>
          <c:x val="0.398523495866673"/>
          <c:y val="0.02079722703639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930197603996"/>
          <c:y val="0.160911878416211"/>
          <c:w val="0.959860306794572"/>
          <c:h val="0.81869084122117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0</c:v>
                </c:pt>
                <c:pt idx="2">
                  <c:v>3</c:v>
                </c:pt>
                <c:pt idx="3">
                  <c:v>1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375</c:v>
                </c:pt>
                <c:pt idx="1">
                  <c:v>4.25</c:v>
                </c:pt>
                <c:pt idx="2">
                  <c:v>12.75</c:v>
                </c:pt>
                <c:pt idx="3">
                  <c:v>12.75</c:v>
                </c:pt>
                <c:pt idx="4">
                  <c:v>4.25</c:v>
                </c:pt>
                <c:pt idx="5">
                  <c:v>4.25</c:v>
                </c:pt>
                <c:pt idx="6">
                  <c:v>0</c:v>
                </c:pt>
                <c:pt idx="7">
                  <c:v>4.2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2.125</c:v>
                </c:pt>
              </c:numCache>
            </c:numRef>
          </c:val>
        </c:ser>
        <c:gapWidth val="100"/>
        <c:overlap val="0"/>
        <c:axId val="28876451"/>
        <c:axId val="74557804"/>
      </c:barChart>
      <c:catAx>
        <c:axId val="2887645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57804"/>
        <c:crossesAt val="0"/>
        <c:auto val="1"/>
        <c:lblAlgn val="ctr"/>
        <c:lblOffset val="100"/>
        <c:noMultiLvlLbl val="0"/>
      </c:catAx>
      <c:valAx>
        <c:axId val="74557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7645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343" spc="-1" strike="noStrike">
                <a:solidFill>
                  <a:srgbClr val="000000"/>
                </a:solidFill>
                <a:latin typeface="Arial"/>
              </a:defRPr>
            </a:pPr>
            <a:r>
              <a:rPr b="1" sz="1343" spc="-1" strike="noStrike">
                <a:solidFill>
                  <a:srgbClr val="000000"/>
                </a:solidFill>
                <a:latin typeface="Arial"/>
              </a:rPr>
              <a:t>EEMR MAIO VESPERTINO</a:t>
            </a:r>
          </a:p>
        </c:rich>
      </c:tx>
      <c:layout>
        <c:manualLayout>
          <c:xMode val="edge"/>
          <c:yMode val="edge"/>
          <c:x val="0.398604506466379"/>
          <c:y val="0.020494876280929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61084728817796"/>
          <c:w val="0.959957335229545"/>
          <c:h val="0.81867033241689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6</c:v>
                </c:pt>
                <c:pt idx="1">
                  <c:v>0</c:v>
                </c:pt>
                <c:pt idx="2">
                  <c:v>5</c:v>
                </c:pt>
                <c:pt idx="3">
                  <c:v>4</c:v>
                </c:pt>
                <c:pt idx="4">
                  <c:v>0</c:v>
                </c:pt>
                <c:pt idx="5">
                  <c:v>2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7.5</c:v>
                </c:pt>
                <c:pt idx="1">
                  <c:v>5</c:v>
                </c:pt>
                <c:pt idx="2">
                  <c:v>15</c:v>
                </c:pt>
                <c:pt idx="3">
                  <c:v>15</c:v>
                </c:pt>
                <c:pt idx="4">
                  <c:v>5</c:v>
                </c:pt>
                <c:pt idx="5">
                  <c:v>5</c:v>
                </c:pt>
                <c:pt idx="6">
                  <c:v>0</c:v>
                </c:pt>
                <c:pt idx="7">
                  <c:v>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2.5</c:v>
                </c:pt>
              </c:numCache>
            </c:numRef>
          </c:val>
        </c:ser>
        <c:gapWidth val="100"/>
        <c:overlap val="0"/>
        <c:axId val="50945271"/>
        <c:axId val="41941613"/>
      </c:barChart>
      <c:catAx>
        <c:axId val="5094527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41613"/>
        <c:crossesAt val="0"/>
        <c:auto val="1"/>
        <c:lblAlgn val="ctr"/>
        <c:lblOffset val="100"/>
        <c:noMultiLvlLbl val="0"/>
      </c:catAx>
      <c:valAx>
        <c:axId val="41941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4527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72" spc="-1" strike="noStrike">
                <a:solidFill>
                  <a:srgbClr val="000000"/>
                </a:solidFill>
                <a:latin typeface="Arial"/>
              </a:defRPr>
            </a:pPr>
            <a:r>
              <a:rPr b="0" sz="972" spc="-1" strike="noStrike">
                <a:solidFill>
                  <a:srgbClr val="000000"/>
                </a:solidFill>
                <a:latin typeface="Arial"/>
              </a:rPr>
              <a:t>EEMR NOTURNO</a:t>
            </a:r>
          </a:p>
        </c:rich>
      </c:tx>
      <c:layout>
        <c:manualLayout>
          <c:xMode val="edge"/>
          <c:yMode val="edge"/>
          <c:x val="0.439669348028977"/>
          <c:y val="0.019872515935508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2984626921635"/>
          <c:w val="0.959957335229545"/>
          <c:h val="0.8567679040119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2</c:v>
                </c:pt>
                <c:pt idx="1">
                  <c:v>0</c:v>
                </c:pt>
                <c:pt idx="2">
                  <c:v>15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5</c:v>
                </c:pt>
                <c:pt idx="11">
                  <c:v>9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00401606425703</c:v>
                </c:pt>
                <c:pt idx="1">
                  <c:v>3.00401606425703</c:v>
                </c:pt>
                <c:pt idx="2">
                  <c:v>10.6506024096386</c:v>
                </c:pt>
                <c:pt idx="3">
                  <c:v>9.83132530120482</c:v>
                </c:pt>
                <c:pt idx="4">
                  <c:v>6.82730923694779</c:v>
                </c:pt>
                <c:pt idx="5">
                  <c:v>6.82730923694779</c:v>
                </c:pt>
                <c:pt idx="6">
                  <c:v>6.82730923694779</c:v>
                </c:pt>
                <c:pt idx="7">
                  <c:v>2.45783132530121</c:v>
                </c:pt>
                <c:pt idx="8">
                  <c:v>4.36947791164659</c:v>
                </c:pt>
                <c:pt idx="9">
                  <c:v>5.18875502008032</c:v>
                </c:pt>
                <c:pt idx="10">
                  <c:v>4.6425702811245</c:v>
                </c:pt>
                <c:pt idx="11">
                  <c:v>2.18473895582329</c:v>
                </c:pt>
                <c:pt idx="12">
                  <c:v>1.36546184738956</c:v>
                </c:pt>
                <c:pt idx="13">
                  <c:v>0.819277108433735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72684590"/>
        <c:axId val="15013392"/>
      </c:barChart>
      <c:catAx>
        <c:axId val="7268459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13392"/>
        <c:crossesAt val="0"/>
        <c:auto val="1"/>
        <c:lblAlgn val="ctr"/>
        <c:lblOffset val="100"/>
        <c:noMultiLvlLbl val="0"/>
      </c:catAx>
      <c:valAx>
        <c:axId val="15013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8459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344" spc="-1" strike="noStrike">
                <a:solidFill>
                  <a:srgbClr val="000000"/>
                </a:solidFill>
                <a:latin typeface="Arial"/>
              </a:defRPr>
            </a:pPr>
            <a:r>
              <a:rPr b="1" sz="1344" spc="-1" strike="noStrike">
                <a:solidFill>
                  <a:srgbClr val="000000"/>
                </a:solidFill>
                <a:latin typeface="Arial"/>
              </a:rPr>
              <a:t>EEMR NOTURNO</a:t>
            </a:r>
          </a:p>
        </c:rich>
      </c:tx>
      <c:layout>
        <c:manualLayout>
          <c:xMode val="edge"/>
          <c:yMode val="edge"/>
          <c:x val="0.413670503533176"/>
          <c:y val="0.020622422197225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60854893138358"/>
          <c:w val="0.959957335229545"/>
          <c:h val="0.8187726534183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12</c:v>
                </c:pt>
                <c:pt idx="3">
                  <c:v>0</c:v>
                </c:pt>
                <c:pt idx="4">
                  <c:v>2</c:v>
                </c:pt>
                <c:pt idx="5">
                  <c:v>0</c:v>
                </c:pt>
                <c:pt idx="6">
                  <c:v>2</c:v>
                </c:pt>
                <c:pt idx="7">
                  <c:v>2</c:v>
                </c:pt>
                <c:pt idx="8">
                  <c:v>0</c:v>
                </c:pt>
                <c:pt idx="9">
                  <c:v>1</c:v>
                </c:pt>
                <c:pt idx="10">
                  <c:v>1</c:v>
                </c:pt>
                <c:pt idx="11">
                  <c:v>4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69477911646586</c:v>
                </c:pt>
                <c:pt idx="1">
                  <c:v>2.69477911646586</c:v>
                </c:pt>
                <c:pt idx="2">
                  <c:v>9.55421686746988</c:v>
                </c:pt>
                <c:pt idx="3">
                  <c:v>8.81927710843373</c:v>
                </c:pt>
                <c:pt idx="4">
                  <c:v>6.12449799196787</c:v>
                </c:pt>
                <c:pt idx="5">
                  <c:v>6.12449799196787</c:v>
                </c:pt>
                <c:pt idx="6">
                  <c:v>6.12449799196787</c:v>
                </c:pt>
                <c:pt idx="7">
                  <c:v>2.20481927710843</c:v>
                </c:pt>
                <c:pt idx="8">
                  <c:v>3.91967871485944</c:v>
                </c:pt>
                <c:pt idx="9">
                  <c:v>4.65461847389558</c:v>
                </c:pt>
                <c:pt idx="10">
                  <c:v>4.16465863453815</c:v>
                </c:pt>
                <c:pt idx="11">
                  <c:v>1.95983935742972</c:v>
                </c:pt>
                <c:pt idx="12">
                  <c:v>1.22489959839357</c:v>
                </c:pt>
                <c:pt idx="13">
                  <c:v>0.734939759036144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98551100"/>
        <c:axId val="84940989"/>
      </c:barChart>
      <c:catAx>
        <c:axId val="9855110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40989"/>
        <c:crossesAt val="0"/>
        <c:auto val="1"/>
        <c:lblAlgn val="ctr"/>
        <c:lblOffset val="100"/>
        <c:noMultiLvlLbl val="0"/>
      </c:catAx>
      <c:valAx>
        <c:axId val="84940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5110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352" spc="-1" strike="noStrike">
                <a:solidFill>
                  <a:srgbClr val="000000"/>
                </a:solidFill>
                <a:latin typeface="Arial"/>
              </a:defRPr>
            </a:pPr>
            <a:r>
              <a:rPr b="1" sz="1352" spc="-1" strike="noStrike">
                <a:solidFill>
                  <a:srgbClr val="000000"/>
                </a:solidFill>
                <a:latin typeface="Arial"/>
              </a:rPr>
              <a:t>EEMR NOTURNO</a:t>
            </a:r>
          </a:p>
        </c:rich>
      </c:tx>
      <c:layout>
        <c:manualLayout>
          <c:xMode val="edge"/>
          <c:yMode val="edge"/>
          <c:x val="0.413729128014842"/>
          <c:y val="0.020622422197225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780811025709"/>
          <c:y val="0.160854893138358"/>
          <c:w val="0.959978796713491"/>
          <c:h val="0.8187726534183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8</c:v>
                </c:pt>
                <c:pt idx="1">
                  <c:v>1</c:v>
                </c:pt>
                <c:pt idx="2">
                  <c:v>0</c:v>
                </c:pt>
                <c:pt idx="3">
                  <c:v>3</c:v>
                </c:pt>
                <c:pt idx="4">
                  <c:v>0</c:v>
                </c:pt>
                <c:pt idx="5">
                  <c:v>0</c:v>
                </c:pt>
                <c:pt idx="6">
                  <c:v>2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4</c:v>
                </c:pt>
                <c:pt idx="12">
                  <c:v>0</c:v>
                </c:pt>
                <c:pt idx="13">
                  <c:v>3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69477911646586</c:v>
                </c:pt>
                <c:pt idx="1">
                  <c:v>2.69477911646586</c:v>
                </c:pt>
                <c:pt idx="2">
                  <c:v>9.55421686746988</c:v>
                </c:pt>
                <c:pt idx="3">
                  <c:v>8.81927710843373</c:v>
                </c:pt>
                <c:pt idx="4">
                  <c:v>5.14457831325301</c:v>
                </c:pt>
                <c:pt idx="5">
                  <c:v>6.12449799196787</c:v>
                </c:pt>
                <c:pt idx="6">
                  <c:v>5.14457831325301</c:v>
                </c:pt>
                <c:pt idx="7">
                  <c:v>2.20481927710843</c:v>
                </c:pt>
                <c:pt idx="8">
                  <c:v>3.91967871485944</c:v>
                </c:pt>
                <c:pt idx="9">
                  <c:v>4.65461847389558</c:v>
                </c:pt>
                <c:pt idx="10">
                  <c:v>4.16465863453815</c:v>
                </c:pt>
                <c:pt idx="11">
                  <c:v>1.95983935742972</c:v>
                </c:pt>
                <c:pt idx="12">
                  <c:v>1.95983935742972</c:v>
                </c:pt>
                <c:pt idx="13">
                  <c:v>1.9598393574297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36649118"/>
        <c:axId val="99641092"/>
      </c:barChart>
      <c:catAx>
        <c:axId val="3664911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41092"/>
        <c:crossesAt val="0"/>
        <c:auto val="1"/>
        <c:lblAlgn val="ctr"/>
        <c:lblOffset val="100"/>
        <c:noMultiLvlLbl val="0"/>
      </c:catAx>
      <c:valAx>
        <c:axId val="99641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4911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FAFD4-AA5C-45EA-BCF2-07AC070559D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C849-6AC9-4020-B716-38D9488D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D5D-0582-4931-A147-C90DEFE2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745D-60AB-44CC-A165-DF7299F0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63F-E738-4C02-BF22-DDE69C10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C6A-2C6A-43B9-82E8-BA0FC355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F00-1E3F-4627-9CF0-15C15E70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AF49-420C-479A-B994-F0D18473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6B8-92B9-4A7B-B028-77800AFA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72F6-703F-404D-9ECC-102ED564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4B7-BFFB-4F53-B545-E93B32FF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95C-B235-4C3B-9428-E3B1E599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594-D2C0-4134-B838-C9AE7074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996E6-6DB8-443A-B84A-853C77764B3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Britannic Bold"/>
              </a:rPr>
              <a:t>VISITA SEMESTR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3933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OLA ESTADUAL MERECHAL R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TU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ÇO – ABRIL – MA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na Patrí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1729080" cy="1584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093080" y="4653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51928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928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0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0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0680" y="1619280"/>
          <a:ext cx="814860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668680" y="4670280"/>
          <a:ext cx="381132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8680" y="467028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0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75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UT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RÇO – ABRIL– MA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iov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21320" y="5300640"/>
            <a:ext cx="272268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0876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668680" y="4670280"/>
          <a:ext cx="381132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8680" y="467028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90680" y="1619280"/>
          <a:ext cx="814860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0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3812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VESPER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ÇO- ABRIL – MA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Fá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747800" cy="1152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12000" y="5373720"/>
            <a:ext cx="26636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668680" y="4670280"/>
          <a:ext cx="381132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8680" y="467028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0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96800" y="1619280"/>
          <a:ext cx="814392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668680" y="4680000"/>
          <a:ext cx="381132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8680" y="468000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0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0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DMS</dc:creator>
  <dc:description/>
  <dc:language>en-US</dc:language>
  <cp:lastModifiedBy>SEDMS</cp:lastModifiedBy>
  <dcterms:modified xsi:type="dcterms:W3CDTF">2009-07-06T19:48:04Z</dcterms:modified>
  <cp:revision>1</cp:revision>
  <dc:subject/>
  <dc:title>As tecnologias mais utilizadas na escola são:</dc:title>
</cp:coreProperties>
</file>